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849-8AC3-4F63-846E-2BD1A952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F13-7CA5-48B2-9B1F-6D578FFF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DF5-4AA9-4978-ACD8-E8EEFD9F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E7D-2F60-44FC-A59C-CD0DCA5B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490B-2498-4874-8FAD-45BC6070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2740-DCDE-463C-BFB3-E6A22336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A6F2-D1BC-4F32-8946-0D088FBE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9DE2-60E5-4B18-B3B6-C152556A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C20A-9A7F-424A-B7F0-6B192DD2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F2D5-D0FC-495E-9C06-1FE352C1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6927-27A3-42B2-B1CC-205DADE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947-DB08-4169-8FAE-73A90BDB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5526-0740-45D4-9EDB-79CE55E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37CD-2E4F-4E1B-BC4E-0BBE934C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BD05-19C9-4560-9A1C-F99FAA47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105C-BE47-49CA-9B08-1EC64B58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69FE-1B0D-4B11-B4FC-1F6D0AA3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FEFC-09A8-4707-963B-F3C452E4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FE17-01A7-4D2D-8A52-86064EC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D97B-4743-4C7A-8221-72E096AF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19EC-CFB6-4144-8412-305B8F24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81E6-F6CC-419E-8FD4-58330CF1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0C3-072D-4860-AEA7-1A45704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90A8-042B-45F6-B1B7-6215EAF2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B973-D67C-47BC-B9BA-5E3BD82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34C9-6CC2-4848-AC94-187C222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A66B-6A3C-4729-92B2-2B487C6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1495-9D31-48F7-BF4C-1B4410BD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0C27-2664-4895-B71D-DDA96E29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F06C-DE33-4704-9AEA-87680E33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0A80-4B0D-467A-9FFE-98A3CEEB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13AD2-1F11-49B2-8B65-0663FCF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6F63-D6AA-49D8-A5D6-BF7FA573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C5A-081D-4E0A-BBA1-5DB5C6F1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7C97A-AEDF-4B42-8F93-54CDFAC4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C2DB-AC33-40F8-89BC-304D551E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7259-3253-4C4D-A2F6-DDE17AC8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352E-3643-40BC-A3A3-D2C2091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E2C75-3DF3-4A2C-A036-E735A1E4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1B0A-7D92-442D-97C2-B6D7B5F0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20EF-94DB-4DD6-BD2C-FA76C1B0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8615-5967-4CFC-BBE3-6B2E8066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3725-03BB-4643-BA95-3BF7BAF3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C9361-DBE1-47B2-B40D-7C311933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1E1-9837-41E1-9FF8-097FC81C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5DD7-E5C8-420C-B297-AD908310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FD8D-AEBE-4DB2-A90C-51BF275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3D30-D274-4000-A183-F64B62E5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6145-872B-4B4C-9BA8-01D3B40D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5AC6-3315-4E7D-ABAE-2BE1B381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60FF3-E26A-4AF1-A2C3-DEA8D1B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74BC-2EB6-456A-8064-2165E1D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EB8FE-6E2F-4454-ACBC-D50CA84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FF273-A71F-4B64-984B-14BDE6E0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3005-D52F-46FF-A784-11B70EF5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238-B57E-4085-8762-A9425524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DEAB-3E1F-4465-BCBB-E5F09D82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05D4-71C5-4C52-AA09-D947F985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9F1C8-3F11-4B1F-B703-0F666E9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0E70E-4471-4425-8080-E0C2B653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9093-E68F-4069-B9C1-38459A28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3231-104A-4C74-883F-C513D1D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93DBB-1DF6-44C8-BA5E-9EE0ACF9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04E1C-7C33-43B4-8DB2-FEA0FCB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67B0-718F-4327-90DF-2307119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2404-4979-4473-87C1-9ED6458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483-1551-4833-A81E-3A5C1E5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117E-169B-4A67-B67D-E68D5E0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B3085-5127-4153-8B17-90786AE7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A7023-F815-460F-AF86-81447509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0CACF-0731-4EBB-8E3F-D30ACE51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BCAF-365E-4F7E-B727-F344581E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DDFE0-BCD8-4753-BD8B-DCB37CC5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D929-4C91-4FD1-877D-613AE0E8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C97A-A776-4566-B694-54E69057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C692-7610-46BC-84C2-80F06076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F983-D085-448D-93BB-6038435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8F8-1FF0-4DAF-9AC0-E66F9717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345FA-F173-45F6-8352-469AF1A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610DA-EB79-44E3-81D7-C421623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431D-EF27-4BF2-8443-58CC55DA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513C6-C993-4CD3-A53A-45330765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6F5F7-8B42-4501-8E2E-6E93D9E5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D90DF-D8AA-40CD-8C76-6EB1D8D2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B1536-F5CE-4BBB-83AB-68D3E1E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645E0-530D-40AB-AAFF-4D221BE7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86C5-A59F-4579-B4B2-FDC6D91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63F11-B526-4BA5-A7A0-105E762D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659-4765-4F9F-8D5B-E0D5856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60BF6-3E12-43CC-B195-30E1FEE2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41091-25BC-41CB-97E5-C1E0F4F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8A9DD-96B0-491F-8BE7-C851F9C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20CC4-449C-467A-B63C-A7C557E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3477-BA80-4BCE-B6B8-F569AD8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9133A-C5FB-4F93-B7F5-5B041A57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85039-0239-4115-B99E-89F394AA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3F8D-FE5F-4508-9171-F4FF05CD9F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3560-850C-4079-B280-4E69DAE5219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950-97CB-4855-954A-B5DA3337D1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1E5-531A-47F0-82B2-3F5D1F29FC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F077-2318-45DB-85D9-53147E4FB22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1FAB-8832-46EE-979E-C82DD2CF55B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5D12-5394-4C2C-B719-51303CF4413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6C0-0C98-4BF0-BEE9-2EAD9AE135D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144792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tions…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6191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3"/>
          <p:cNvSpPr/>
          <p:nvPr/>
        </p:nvSpPr>
        <p:spPr>
          <a:xfrm>
            <a:off x="533520" y="137160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ing School Libraries fo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’s Learners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t’s your tur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as a te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vely discuss and develop your group vision of school library media centers for tomorrow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us grow, change, and innovate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21:20Z</dcterms:created>
  <dc:creator>Eagle Schools</dc:creator>
  <dc:description/>
  <dc:language>en-US</dc:language>
  <cp:lastModifiedBy>Eagle Schools</cp:lastModifiedBy>
  <dcterms:modified xsi:type="dcterms:W3CDTF">2010-11-15T19:58:52Z</dcterms:modified>
  <cp:revision>12</cp:revision>
  <dc:subject/>
  <dc:title>Slide 1</dc:title>
</cp:coreProperties>
</file>